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D4F-724E-46F8-90E5-45E8F2D1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877-C0BC-485F-B054-5F3BEBA9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67E-2691-4795-9249-C15B348B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CC5-3C18-42F2-A6CE-D7AE5D73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97F-6F48-4BB2-A0AC-8931CAEF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C80-8B3C-4A97-9ADB-38809C5D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819-19D0-4650-ACFB-BE122C13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908-A9E9-4C07-8E8D-C662E849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34C-A4E4-4BBB-879A-6459F2B9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309-D32A-4A38-8ABE-3AB968E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E09-F1FD-4360-BE5B-8C6B80A8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BB4-F97E-4F3A-9B63-1F82EB1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AFAC-014F-44E2-A3FC-B1054E259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ndb.com/people/894/000092618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epa.newschool.edu/het/schools/mercant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28.jpeg"/><Relationship Id="rId4" Type="http://schemas.openxmlformats.org/officeDocument/2006/relationships/image" Target="../media/image26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apLouisXIVAquisitions1668-97p535"/>
          <p:cNvPicPr/>
          <p:nvPr/>
        </p:nvPicPr>
        <p:blipFill>
          <a:blip r:embed="rId1"/>
          <a:stretch/>
        </p:blipFill>
        <p:spPr>
          <a:xfrm>
            <a:off x="1828800" y="228600"/>
            <a:ext cx="6076800" cy="586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2362320"/>
            <a:ext cx="1752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 expands its’ borders- Many of these areas will lead to disputes until WWII - Especially the area known a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s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1295280" y="3047760"/>
            <a:ext cx="5410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is XIV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n King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43-17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Versailles- (Where is i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s were all forced to live at Versa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rged Army- Largest army in Europe, 400,000!!!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ght several Wars- Other European nations allied w/one another to fend Louis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borders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ocated Mercantilism (see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KED THE EDICT OF NANTES (see Henry IV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Kings wanted to emulate Louis- Era of the Divine Right of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te rituals surrounded Louis court at Vers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flowed from the Treasury, beginning a century of financial problems for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uis14aftrigaud_1638-1715lrg36k"/>
          <p:cNvPicPr/>
          <p:nvPr/>
        </p:nvPicPr>
        <p:blipFill>
          <a:blip r:embed="rId1"/>
          <a:stretch/>
        </p:blipFill>
        <p:spPr>
          <a:xfrm>
            <a:off x="155520" y="46080"/>
            <a:ext cx="2657520" cy="420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Acueil250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1790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2"/>
          <p:cNvSpPr/>
          <p:nvPr/>
        </p:nvSpPr>
        <p:spPr>
          <a:xfrm>
            <a:off x="3049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t c’est Mo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0" y="4648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youth he escaped near death in Paris- he never liked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0" y="5667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ed Charles II and James II of England- secretly sought to restore Catholicism to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nal Mazar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powerful church official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d by the Jesuits at Rome accepte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rdinal Richelie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(see sl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mid 1600s, were largely due to mistakes by Maz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zarin was primarily interested in extending French power over Europe- which Louis XIV would later accompl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AZARIN"/>
          <p:cNvPicPr/>
          <p:nvPr/>
        </p:nvPicPr>
        <p:blipFill>
          <a:blip r:embed="rId2"/>
          <a:stretch/>
        </p:blipFill>
        <p:spPr>
          <a:xfrm>
            <a:off x="838080" y="0"/>
            <a:ext cx="1870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an Colbe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e Mini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ôleur généra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oughly, minister of finance) under King Louis XIV of France.  Kept financial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rcanti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ctrine that the expansion of commerce (and the maintenance of a favorable balance of trade) was the key to State w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he movement of goods and labor between regions of France remained in pla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bert recognized the need f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internal transportation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only because it was necessary to connect the ports to French import-export indus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olbert2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rcantilism- An Econom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only so much wealth in the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time another country gains wealth it means that my country becomes po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fore its necessary to keep a posi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lance of Trad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Exports-Im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goods sold from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goods brought into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riff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re taxes on trade.  By having high tariffs on imports a country can reduce the number of imports it has and then have a positive Balance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nite Wor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eans economics and wealth 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ero sum Ga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Trade Theory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FRANCE IN THE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de is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other country can make something cheaper, consumers in the importing country get a better good at a cheaper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r country should specialize in those types of goods that we make better and cheaper.  Those goods and services will be our Expor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gative trade balance is not necessarily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 promotes cooperation and interdependence which means less conflict (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ie (Wealth in the World) is not limited (finite).  A vibrant economy often devises new and innovative methods to mak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76520" y="5020560"/>
            <a:ext cx="6248160" cy="1280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is the US Trade Balance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is our biggest trading partn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do we have the most negative trade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do we have the most positive trade bal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Balazs’ summer house? No this is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versail"/>
          <p:cNvPicPr/>
          <p:nvPr/>
        </p:nvPicPr>
        <p:blipFill>
          <a:blip r:embed="rId1"/>
          <a:stretch/>
        </p:blipFill>
        <p:spPr>
          <a:xfrm>
            <a:off x="914400" y="1600200"/>
            <a:ext cx="685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ery nice Room at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Treaty’s were signed at Versai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versailles"/>
          <p:cNvPicPr/>
          <p:nvPr/>
        </p:nvPicPr>
        <p:blipFill>
          <a:blip r:embed="rId1"/>
          <a:stretch/>
        </p:blipFill>
        <p:spPr>
          <a:xfrm>
            <a:off x="1371600" y="2895480"/>
            <a:ext cx="5324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versailles"/>
          <p:cNvPicPr/>
          <p:nvPr/>
        </p:nvPicPr>
        <p:blipFill>
          <a:blip r:embed="rId1"/>
          <a:stretch/>
        </p:blipFill>
        <p:spPr>
          <a:xfrm>
            <a:off x="762120" y="1143000"/>
            <a:ext cx="7677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9920" y="4952520"/>
            <a:ext cx="259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s of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versailles-1994b"/>
          <p:cNvPicPr/>
          <p:nvPr/>
        </p:nvPicPr>
        <p:blipFill>
          <a:blip r:embed="rId1"/>
          <a:stretch/>
        </p:blipFill>
        <p:spPr>
          <a:xfrm>
            <a:off x="0" y="0"/>
            <a:ext cx="4191120" cy="279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40th%20b'day%20Versailles%20gardens"/>
          <p:cNvPicPr/>
          <p:nvPr/>
        </p:nvPicPr>
        <p:blipFill>
          <a:blip r:embed="rId2"/>
          <a:stretch/>
        </p:blipFill>
        <p:spPr>
          <a:xfrm>
            <a:off x="4267080" y="1066680"/>
            <a:ext cx="4876920" cy="3514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France%20-%20Versailles%20Fountains"/>
          <p:cNvPicPr/>
          <p:nvPr/>
        </p:nvPicPr>
        <p:blipFill>
          <a:blip r:embed="rId3"/>
          <a:stretch/>
        </p:blipFill>
        <p:spPr>
          <a:xfrm>
            <a:off x="609480" y="3276720"/>
            <a:ext cx="464832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ailles – Hall of Mi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24bg"/>
          <p:cNvPicPr/>
          <p:nvPr/>
        </p:nvPicPr>
        <p:blipFill>
          <a:blip r:embed="rId1"/>
          <a:stretch/>
        </p:blipFill>
        <p:spPr>
          <a:xfrm>
            <a:off x="838080" y="1752480"/>
            <a:ext cx="5334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487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I of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3352680"/>
            <a:ext cx="7086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France 1547-1559 (died unexpectedly after a jousting tourna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War BTW France/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50 years following Henry II’s death, France will be locked in religious struggles and a simmering civil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50px-Henri2-1"/>
          <p:cNvPicPr/>
          <p:nvPr/>
        </p:nvPicPr>
        <p:blipFill>
          <a:blip r:embed="rId1"/>
          <a:stretch/>
        </p:blipFill>
        <p:spPr>
          <a:xfrm>
            <a:off x="0" y="0"/>
            <a:ext cx="2381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Kings Tried to Build Their Own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2514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hof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il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 the Gr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ule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e built Peterhof after visiting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eterhof"/>
          <p:cNvPicPr/>
          <p:nvPr/>
        </p:nvPicPr>
        <p:blipFill>
          <a:blip r:embed="rId1"/>
          <a:stretch/>
        </p:blipFill>
        <p:spPr>
          <a:xfrm>
            <a:off x="2438280" y="1523880"/>
            <a:ext cx="65152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Versailles “cop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enbrunn, located in Vienna, Austria, built by the Hapsburg’s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6-17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P7130330"/>
          <p:cNvPicPr/>
          <p:nvPr/>
        </p:nvPicPr>
        <p:blipFill>
          <a:blip r:embed="rId1"/>
          <a:stretch/>
        </p:blipFill>
        <p:spPr>
          <a:xfrm>
            <a:off x="30481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T001305B"/>
          <p:cNvPicPr/>
          <p:nvPr/>
        </p:nvPicPr>
        <p:blipFill>
          <a:blip r:embed="rId2"/>
          <a:stretch/>
        </p:blipFill>
        <p:spPr>
          <a:xfrm>
            <a:off x="155520" y="460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Yet anoth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nsso3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ans_souci_potsdam2"/>
          <p:cNvPicPr/>
          <p:nvPr/>
        </p:nvPicPr>
        <p:blipFill>
          <a:blip r:embed="rId2"/>
          <a:stretch/>
        </p:blipFill>
        <p:spPr>
          <a:xfrm>
            <a:off x="0" y="0"/>
            <a:ext cx="31050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palais1h"/>
          <p:cNvPicPr/>
          <p:nvPr/>
        </p:nvPicPr>
        <p:blipFill>
          <a:blip r:embed="rId3"/>
          <a:stretch/>
        </p:blipFill>
        <p:spPr>
          <a:xfrm>
            <a:off x="3362400" y="2209680"/>
            <a:ext cx="5781600" cy="3963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9"/>
          <p:cNvSpPr/>
          <p:nvPr/>
        </p:nvSpPr>
        <p:spPr>
          <a:xfrm>
            <a:off x="304920" y="2666880"/>
            <a:ext cx="27590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ans Souci Pa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erick the Great of Pruss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pprox. 1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d in Potsdam (outside of Berlin) Ger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rdens are approximately the same size as Central Park NYC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1905120" y="6248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914400" y="6172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all these Kings, Queens and Emperors have in common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KAY JUST ONE M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 1702 BY A DUKE AND SOLD TO GEORGE III IN 17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buckingham%20palace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Buckingham%20Palace%20(MZ)"/>
          <p:cNvPicPr/>
          <p:nvPr/>
        </p:nvPicPr>
        <p:blipFill>
          <a:blip r:embed="rId2"/>
          <a:stretch/>
        </p:blipFill>
        <p:spPr>
          <a:xfrm>
            <a:off x="2590920" y="194328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4267080" y="914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 where this is located. Hint it’s not Da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as similar to all these Pala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and Design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are these Palaces different from cast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Te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oque- how did the palaces reflect the Baroque period of 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ssage to the People and Noble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a residence reflect its’ ow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ansso3"/>
          <p:cNvPicPr/>
          <p:nvPr/>
        </p:nvPicPr>
        <p:blipFill>
          <a:blip r:embed="rId1"/>
          <a:stretch/>
        </p:blipFill>
        <p:spPr>
          <a:xfrm>
            <a:off x="0" y="50482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T001305B"/>
          <p:cNvPicPr/>
          <p:nvPr/>
        </p:nvPicPr>
        <p:blipFill>
          <a:blip r:embed="rId2"/>
          <a:stretch/>
        </p:blipFill>
        <p:spPr>
          <a:xfrm>
            <a:off x="7086600" y="228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terhof"/>
          <p:cNvPicPr/>
          <p:nvPr/>
        </p:nvPicPr>
        <p:blipFill>
          <a:blip r:embed="rId3"/>
          <a:stretch/>
        </p:blipFill>
        <p:spPr>
          <a:xfrm>
            <a:off x="655308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uckingham%20palace"/>
          <p:cNvPicPr/>
          <p:nvPr/>
        </p:nvPicPr>
        <p:blipFill>
          <a:blip r:embed="rId4"/>
          <a:stretch/>
        </p:blipFill>
        <p:spPr>
          <a:xfrm>
            <a:off x="0" y="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33" name="WordArt 9"/>
          <p:cNvSpPr txBox="1"/>
          <p:nvPr/>
        </p:nvSpPr>
        <p:spPr>
          <a:xfrm>
            <a:off x="990720" y="914400"/>
            <a:ext cx="14000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nk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1480" y="5331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of the Spanish Succ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0" y="2666520"/>
            <a:ext cx="3657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versus- Everyone in Pink (Grand Alli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KISH_17_398"/>
          <p:cNvPicPr/>
          <p:nvPr/>
        </p:nvPicPr>
        <p:blipFill>
          <a:blip r:embed="rId1"/>
          <a:stretch/>
        </p:blipFill>
        <p:spPr>
          <a:xfrm>
            <a:off x="0" y="0"/>
            <a:ext cx="51148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5410080" y="441972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 Feared a Unified Spanish-French King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Louis XIV’s grandson, Philip V was next in line to become King of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y of Utre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western_europe_utrecht_treaty"/>
          <p:cNvPicPr/>
          <p:nvPr/>
        </p:nvPicPr>
        <p:blipFill>
          <a:blip r:embed="rId1"/>
          <a:stretch/>
        </p:blipFill>
        <p:spPr>
          <a:xfrm>
            <a:off x="2733840" y="1743120"/>
            <a:ext cx="6410160" cy="5114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0" y="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1713, in the Netherlands.  The treaty ENDED the European War of the Spanish Succession.  Limited French Power- through Balance of Power (Alli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sts of Extravagance- Wars and Keeping up the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forb007"/>
          <p:cNvPicPr/>
          <p:nvPr/>
        </p:nvPicPr>
        <p:blipFill>
          <a:blip r:embed="rId1"/>
          <a:stretch/>
        </p:blipFill>
        <p:spPr>
          <a:xfrm>
            <a:off x="685800" y="137160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7696080" y="1295280"/>
            <a:ext cx="144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s are Expensive- The Iraq War has already cost $600 Billion and some experts believe it will rise to $1Trillion!!!, or $3300 per each person living in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ee Descar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e and Mathematici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think - therefore I 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ther sayings by Desc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al seeker after truth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t is necessary that at least once in your life you doubt, as far as possible, all thi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ding of all good books is indeed like a conversation with the noblest men of past centuries who were the authors of them, nay a carefully studied conversation, in which they reveal to us none but the best of their though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 our own thoughts, there is nothing absolutely in our power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ptimist may see a light where there is none, but why must the pessimist always run to blow it ou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enough to have a good mind; the main thing is to use it well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it is not in our power to follow what is true, we ought to follow what is most probabl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descartes%20drawing"/>
          <p:cNvPicPr/>
          <p:nvPr/>
        </p:nvPicPr>
        <p:blipFill>
          <a:blip r:embed="rId1"/>
          <a:stretch/>
        </p:blipFill>
        <p:spPr>
          <a:xfrm>
            <a:off x="7318440" y="0"/>
            <a:ext cx="1825560" cy="220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descartes"/>
          <p:cNvPicPr/>
          <p:nvPr/>
        </p:nvPicPr>
        <p:blipFill>
          <a:blip r:embed="rId2"/>
          <a:stretch/>
        </p:blipFill>
        <p:spPr>
          <a:xfrm>
            <a:off x="0" y="0"/>
            <a:ext cx="15717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rabelais"/>
          <p:cNvPicPr/>
          <p:nvPr/>
        </p:nvPicPr>
        <p:blipFill>
          <a:blip r:embed="rId1"/>
          <a:stretch/>
        </p:blipFill>
        <p:spPr>
          <a:xfrm>
            <a:off x="3962520" y="0"/>
            <a:ext cx="12427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montaigne"/>
          <p:cNvPicPr/>
          <p:nvPr/>
        </p:nvPicPr>
        <p:blipFill>
          <a:blip r:embed="rId2"/>
          <a:stretch/>
        </p:blipFill>
        <p:spPr>
          <a:xfrm>
            <a:off x="228600" y="762120"/>
            <a:ext cx="1905120" cy="2190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2895480"/>
            <a:ext cx="2971800" cy="3123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aigne (1533-1592)  French courtier and author of ESSAIS (1572-80, 1588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ssay, a short piece that discusses the author's personal thoughts about a particular su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moliere"/>
          <p:cNvPicPr/>
          <p:nvPr/>
        </p:nvPicPr>
        <p:blipFill>
          <a:blip r:embed="rId3"/>
          <a:stretch/>
        </p:blipFill>
        <p:spPr>
          <a:xfrm>
            <a:off x="7086600" y="304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7467480" y="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14600" y="5029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400800" y="2362320"/>
            <a:ext cx="2743200" cy="39459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actor and playwright, the greatest of all writers of French come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ère's masterpie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 attack hypocrisy and vice, he created characters that have become immortal types, such as the hypochondriac, the hypocrite, the miser, the misanthr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200400" y="1905120"/>
            <a:ext cx="2819520" cy="4415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nch Renaissance writer, a Franciscan monk, humanist, and physici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ic novel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argantu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ntagru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Rabelais' heroes are rude but funny giants traveling in a world full of greed, stupidity, violence, and grotesque jok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 books were banned by the Catholic Church and later placed on The Index librorum prohibitorumon (the Index of Forbidden Books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579096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erine de Med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3720" y="99072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very nic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in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ous Medici family of Flo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married into French R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atherinemedici2"/>
          <p:cNvPicPr/>
          <p:nvPr/>
        </p:nvPicPr>
        <p:blipFill>
          <a:blip r:embed="rId1"/>
          <a:stretch/>
        </p:blipFill>
        <p:spPr>
          <a:xfrm>
            <a:off x="0" y="0"/>
            <a:ext cx="301932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H="1">
            <a:off x="1523520" y="1219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66680" y="4267080"/>
            <a:ext cx="7620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, Charles IX and Henry III, both became King but she was the Power behind the Throne- Weak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a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St. Bartholomew’s Massac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eventually become of France at the end of the1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 (1700s)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ng foo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e of the Bourgeoi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in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gue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895480"/>
            <a:ext cx="79246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Calvinists- By Henry II’s death in 1559, 16% of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France feared the rise of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4, 1572, 1000s of Huguenots were killed in the St. Bartholomew’s Massacre (they were in Paris to celebrate Henry of Navarre’s marriage to Catherine de Medici’s 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egour1"/>
          <p:cNvPicPr/>
          <p:nvPr/>
        </p:nvPicPr>
        <p:blipFill>
          <a:blip r:embed="rId1"/>
          <a:stretch/>
        </p:blipFill>
        <p:spPr>
          <a:xfrm>
            <a:off x="155520" y="46080"/>
            <a:ext cx="2676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Gu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of Guise (Family)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id to the throne of F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ly Catholic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, Mary Stuart (Scotlan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t,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wi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pain raised suspicion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Bou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se of Bourbon (Family) also vying for Thr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III of Navarre bec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IV of F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se of Henry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Bourbon king of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ace Intrigue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of Navarre, who was a Huguenot, married Catherine de Medici’s daughter on August 24, 1572 (YES!!! St. Bartholomew’s Day)…how did Catherine celebrate her daughter’s hand in marriage- by slaughtering Huguenots.  The marriage was arranged, so Catherine wasn’t upset about the marriage, but she did know that 1000s of Huguenots would come to the wedding, so it would be a great opportunity to kill a lot (remember she was not a nice person).  Henry, himself, had to convert to Catholicism to avoid death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Orleans"/>
          <p:cNvPicPr/>
          <p:nvPr/>
        </p:nvPicPr>
        <p:blipFill>
          <a:blip r:embed="rId1"/>
          <a:stretch/>
        </p:blipFill>
        <p:spPr>
          <a:xfrm>
            <a:off x="7826400" y="0"/>
            <a:ext cx="131760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Orleans"/>
          <p:cNvPicPr/>
          <p:nvPr/>
        </p:nvPicPr>
        <p:blipFill>
          <a:blip r:embed="rId2"/>
          <a:stretch/>
        </p:blipFill>
        <p:spPr>
          <a:xfrm>
            <a:off x="0" y="0"/>
            <a:ext cx="131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1480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of Nava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962160" y="13712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se to Throne after Henry III died (no heir) .  Henry was a whole new family!!!- House of Bou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estant, TWICE he changed religions and became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ct of 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olicism is the official religion of France but Protestantism is tol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- No Protestant services in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sed chicken dinners once a we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ssinated in 1610- His son, Louis XIII become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enry4"/>
          <p:cNvPicPr/>
          <p:nvPr/>
        </p:nvPicPr>
        <p:blipFill>
          <a:blip r:embed="rId1"/>
          <a:stretch/>
        </p:blipFill>
        <p:spPr>
          <a:xfrm>
            <a:off x="0" y="838080"/>
            <a:ext cx="3819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 X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6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IV’s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9 when he became King, ruled 1610-1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ed on his behalf until he became an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nal Richelieu dominated the 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 K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Cardinal Richelieu, future French Kings would dominate the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louis13france2"/>
          <p:cNvPicPr/>
          <p:nvPr/>
        </p:nvPicPr>
        <p:blipFill>
          <a:blip r:embed="rId1"/>
          <a:stretch/>
        </p:blipFill>
        <p:spPr>
          <a:xfrm>
            <a:off x="155520" y="46080"/>
            <a:ext cx="3562560" cy="5286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6019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uler is too young to Rule, the person acting on his/her behalf is called a Re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0496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nal Riche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560" y="137160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France during the Reign of Louis XIII (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d about Huguenots- starved out the Huguenot dominated City of La Roch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ght to Diminish the Power of the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a civil service (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nd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collect taxes, empowering the King’s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richeli"/>
          <p:cNvPicPr/>
          <p:nvPr/>
        </p:nvPicPr>
        <p:blipFill>
          <a:blip r:embed="rId1"/>
          <a:stretch/>
        </p:blipFill>
        <p:spPr>
          <a:xfrm>
            <a:off x="0" y="0"/>
            <a:ext cx="3533760" cy="5114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685800" y="586728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a Church Official gain so much Governmental Power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e title Cardinal is only granted by the Pop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4:13:43Z</dcterms:created>
  <dc:creator>Darien Public Schools</dc:creator>
  <dc:description/>
  <dc:language>en-US</dc:language>
  <cp:lastModifiedBy>test</cp:lastModifiedBy>
  <dcterms:modified xsi:type="dcterms:W3CDTF">2010-02-24T13:22:30Z</dcterms:modified>
  <cp:revision>19</cp:revision>
  <dc:subject/>
  <dc:title>Henry II of France</dc:title>
</cp:coreProperties>
</file>